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CA5-A46C-4CDF-9071-54CDB84B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A44-3BDD-4B5E-BD37-4A769DB1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2B0-B5EE-4D66-AFAD-03644CC9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D21-81CF-47A7-A106-6BF2DDE0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4048-AC22-419D-9F58-70E63F3C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CFB5-E25D-4C59-A174-EB819E6D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23CC-11BE-4495-9AAA-0FC67F16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FB39-09FD-4954-9B5E-A116212A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1D72-510F-4DDE-893C-BED080BA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4476-4EDB-4D32-BA51-94C281FB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CFA2-8F47-426F-BA74-A046BA5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D12-3955-4BC9-938E-2E399F96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CFAD-7751-4DFC-8471-B46D50D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C97F-DBD8-4262-97AB-B2553484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3EEC-C958-454B-A083-9CA90E45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CAA7-8A35-40C2-9397-713C27EF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8BCC-D44D-4BFD-B508-7D622F1D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6D9-6708-4451-BE99-50DB3CC1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C38-E867-4AF7-AC2F-301B4F5E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706-25E3-47C3-BF1B-5E5A12A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F60-FB97-4426-8814-4C9C6762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8EB-48F2-490F-8D8E-B94268A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987-DCB5-4D44-9449-29BA4F3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ADC-F0C1-4F4F-8045-218C5A9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B74-EEEE-4E06-B858-2B54F19A4B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A8A0-7CF4-4FEE-A3B4-5E7043955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23EC-E976-402A-9F31-E950826756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B902-F653-42FA-B771-8179720D4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9280" y="1412640"/>
            <a:ext cx="80769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mperfect vs. Preterit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spects of the Pas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87640" y="4076640"/>
            <a:ext cx="4576680" cy="13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1338-CDD1-49A5-BF39-8337101BD84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5107CAE-C12E-422D-9721-1905CE069196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fill="hold">
                <p:childTnLst>
                  <p:par>
                    <p:cTn id="3" fill="hold">
                      <p:stCondLst>
                        <p:cond evt="onBegin"/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-Er and –Ir Imperfect E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, el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sotros 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sotros 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os, ellas com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í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e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sal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í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036-A091-4A3F-A626-001CB3324A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09BD3-680C-46FF-A81C-FF43413CE585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rregular Verbs in the Imperfect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r (to 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íb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 (to s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r (to 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r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7640" y="3716280"/>
            <a:ext cx="1419480" cy="2133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43640" y="3681360"/>
            <a:ext cx="2879640" cy="21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F19-19AE-4EF2-96E7-AFAAAC6D2D1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3E77C-51D8-448B-B991-4DEB3E0D37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cribe en español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eating when sh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m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ando ella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llam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te, then I played and lastly I stu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m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uego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jugu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último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estudi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8E1-4BB8-44CC-8F4C-280379D97D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D3CB1-6F14-41DC-806A-D857F01D0B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sentenc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ast night we ate pizz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che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mi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very summer we went to the b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los veranos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íb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pla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E8B-D3DB-40D2-8564-36C2079B99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3E205-3086-4E9D-A7CD-B0463A0B3C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asic uses of the Imperfect Ten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express an 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event or action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going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on in the 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no reference to beginning or end (no specific tim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anta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n el c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used to sing in the cho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E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udiante del colegio Immacul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was a student at Immaculata H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DF7-1F3E-4D68-A0C2-FD6FF83136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93D5D-667B-4E22-BF1E-932C7F784BE8}" type="datetime1">
              <a:rPr lang="en-US"/>
              <a:t>07/29/26</a:t>
            </a:fld>
          </a:p>
        </p:txBody>
      </p:sp>
    </p:spTree>
  </p:cSld>
  <p:transition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6000" y="225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Imperfect Ten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express 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repeated 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ast. (todos los días, siempre, muchas veces, cada verano, etc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e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periódico todos los dí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used to read the paper every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verano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íbam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play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 used to go to the beach each su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77F-2777-44DE-B318-07A342561B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0DE4A-2452-48B2-A59C-BB2BD7F3B8E6}" type="datetime1">
              <a:rPr lang="en-US"/>
              <a:t>07/29/26</a:t>
            </a:fld>
          </a:p>
        </p:txBody>
      </p:sp>
    </p:spTree>
  </p:cSld>
  <p:transition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Rul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xpressing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ast. (setting the st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tiemp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c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was the weather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c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ío y llov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was cold and it r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6000" y="2700360"/>
            <a:ext cx="2663640" cy="237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D97-E986-45B6-B1C7-377F5FC8EA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C99DF-5A6C-49A9-8EB9-447F0B85FF50}" type="datetime1">
              <a:rPr lang="en-US"/>
              <a:t>07/29/26</a:t>
            </a:fld>
          </a:p>
        </p:txBody>
      </p:sp>
    </p:spTree>
  </p:cSld>
  <p:transition>
    <p:checke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erfect tens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o tell what time it 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ast. Preterite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¿Qué hor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time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E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una en punto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was one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35640" y="4400640"/>
            <a:ext cx="1952640" cy="16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835-ADA8-4125-AEAF-DB57E56D28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D115B-AAFB-42A7-BFB8-92E22D39B33D}" type="datetime1">
              <a:rPr lang="en-US"/>
              <a:t>07/29/26</a:t>
            </a:fld>
          </a:p>
        </p:txBody>
      </p:sp>
    </p:spTree>
  </p:cSld>
  <p:transition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-91080"/>
            <a:ext cx="8015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erfect is also used to expres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elings, physical sens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sually) an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ntal s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usual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chiquito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e sent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lo porque no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ení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os amig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58F-652C-47B1-AC1D-9D57C5DADE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91C20-D307-4805-A9F7-45CE8EECF6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Imperfect    vs.  The Preterit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action in the past. Action being in process. No specific time is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bitual events.(todos los días, siempre, cada ver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event or background cut by preteri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completed in the past. One tim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ime is given.  (anoche, esta mañana, en 19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mber of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 action that was taking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D5E-845B-42A1-939E-8D68A8DA02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9F09B-B4A8-4166-982A-ADED0B52D66E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erfect     vs   Preteri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actions at the same time. (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Com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ent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le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was eat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 was 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ad and heart ver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 and d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llling time and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as a series of ev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words are used. (primero, luego, después et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dden change in condition, state or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511-CD4F-4C2C-91F7-9CFA978CCA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87868-3CB3-401D-A5B9-7B486C4508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erfect Tense of –Ar Verb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l, 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sotr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áb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sotros 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os, ellas cant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a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492360" y="4294080"/>
            <a:ext cx="1621080" cy="2563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E81-9E13-4DCC-A406-6185F2DD67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0EF31-B7B2-405B-BB75-88CBF317DA11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HS</cp:lastModifiedBy>
  <dcterms:modified xsi:type="dcterms:W3CDTF">2010-05-03T12:36:0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